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7700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5E3-5DA1-4AA3-87BB-F840C325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1625-6C31-492B-B6A8-C5E01CB7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FDE6-5F0D-4A66-88B4-93B846D9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B09A-B1E3-4451-90F7-3E4AFB66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EE53-49EE-4DE1-9DF5-54CC194E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4D67-6B57-4345-91FB-2996D8F4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21F6-5A5A-4B73-B4FF-25D7E5D8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4290-47C4-40D0-B024-24C89D00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3266-9B1B-4A3C-92AB-C5878EBF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F860-10B7-48FC-9F32-ED0A2A81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A6DF-0BE6-4B4C-84F6-751A624F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1B0E-710B-4BC5-A603-0063DCD5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7D1E-F2DC-4136-AA38-A1AA6471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088A-55F1-49E2-84A4-7C9B7D6F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6A2D-1643-49A9-848E-3303B180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D0C4-50BC-4BA4-B046-F309E911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A223-3D8D-49F5-9666-4BFD53B4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179E-8362-47BA-B094-25F78F86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7D87-DFEE-4016-8133-2B6A2138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7146-7FB3-45C5-9B9D-CC73CAAE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2427-7E84-4FB0-B251-41B1E089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3508-779D-4397-9197-11EFA302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E97F-A422-4194-BF0D-A4BA5C0E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C9E-CBF6-4B30-9EDF-8C54A620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A706-DD95-409B-99C6-F8ADCDB274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70CF-3573-4551-B2AC-761C71E0BB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522936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6 Period Day Model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6021000"/>
            <a:ext cx="807696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herine Gilbe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istopher Truf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8edf2"/>
                </a:solidFill>
                <a:latin typeface="Tahoma"/>
              </a:rPr>
              <a:t>Change in Scheduling Models</a:t>
            </a:r>
            <a:br>
              <a:rPr sz="4000"/>
            </a:br>
            <a:r>
              <a:rPr b="0" lang="en-US" sz="4000" spc="-1" strike="noStrike">
                <a:solidFill>
                  <a:srgbClr val="e8edf2"/>
                </a:solidFill>
                <a:latin typeface="Tahoma"/>
              </a:rPr>
              <a:t>Middle School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62120" y="2984400"/>
          <a:ext cx="3771720" cy="232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984400"/>
                    <a:ext cx="3771720" cy="2328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52280" y="1828800"/>
          <a:ext cx="8823600" cy="47466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828800"/>
                    <a:ext cx="8823600" cy="4746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6 Period Day Model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69608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 58-minute Peri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5-minute lun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4-minutes of passing time = 397 total minutes/400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teachers – Core and Encore- teach 4 out of 6 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ets COMAR requirements for PE/Health, WCL, and Fine A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62120" y="1773360"/>
          <a:ext cx="7696080" cy="893520"/>
        </p:xfrm>
        <a:graphic>
          <a:graphicData uri="http://schemas.openxmlformats.org/drawingml/2006/table">
            <a:tbl>
              <a:tblPr/>
              <a:tblGrid>
                <a:gridCol w="1100160"/>
                <a:gridCol w="1098360"/>
                <a:gridCol w="1100160"/>
                <a:gridCol w="1098720"/>
                <a:gridCol w="555480"/>
                <a:gridCol w="1447920"/>
                <a:gridCol w="12952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c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c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6 Period Day Model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69608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tains common planning time for Core and possibly Encore 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s opportunities to study World and Classical Langua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ves Advanced Language Arts 8/ World &amp; Classical Languages iss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ves AVID/World &amp; Classical Language issue in grade 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62120" y="1773360"/>
          <a:ext cx="7696080" cy="893520"/>
        </p:xfrm>
        <a:graphic>
          <a:graphicData uri="http://schemas.openxmlformats.org/drawingml/2006/table">
            <a:tbl>
              <a:tblPr/>
              <a:tblGrid>
                <a:gridCol w="1100160"/>
                <a:gridCol w="1098360"/>
                <a:gridCol w="1100160"/>
                <a:gridCol w="1098720"/>
                <a:gridCol w="555480"/>
                <a:gridCol w="1447920"/>
                <a:gridCol w="12952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c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c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6 Period Day Model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69608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resses WCL programmatic concern in MYP scho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ves research based Intervention classes away from PE/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ld provide more consecutive reading time for students in n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s the need for World and Classical Language 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1773360"/>
          <a:ext cx="7696080" cy="893520"/>
        </p:xfrm>
        <a:graphic>
          <a:graphicData uri="http://schemas.openxmlformats.org/drawingml/2006/table">
            <a:tbl>
              <a:tblPr/>
              <a:tblGrid>
                <a:gridCol w="1100160"/>
                <a:gridCol w="1098360"/>
                <a:gridCol w="1100160"/>
                <a:gridCol w="1098720"/>
                <a:gridCol w="555480"/>
                <a:gridCol w="1447920"/>
                <a:gridCol w="12952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c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c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6 Period Day Model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69608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reases planning time for all teachers from 90 minutes to 120 minu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reases caseload for Language Arts and math teachers from 90 to 120 students (potential reduction for some grade 8 Advanced Language Arts teache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reases caseload for Science and Social Studies teachers from 90 to 120 students by seme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1773360"/>
          <a:ext cx="7696080" cy="893520"/>
        </p:xfrm>
        <a:graphic>
          <a:graphicData uri="http://schemas.openxmlformats.org/drawingml/2006/table">
            <a:tbl>
              <a:tblPr/>
              <a:tblGrid>
                <a:gridCol w="1100160"/>
                <a:gridCol w="1098360"/>
                <a:gridCol w="1100160"/>
                <a:gridCol w="1098720"/>
                <a:gridCol w="555480"/>
                <a:gridCol w="1447920"/>
                <a:gridCol w="12952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c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c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6 Period Day Model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69608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reases caseload for Science and Social Studies teachers from 180 to 120 students for the y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iminates the need for classes split by lunch at larger schools with a 4 lunch period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core program shows progression- restricted in grade 6 to unlimited choices in grade 8 (must meet COMA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ires differentiated staffing mo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0 minute periods possible with additional 10 minutes added to the school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62120" y="1773360"/>
          <a:ext cx="7696080" cy="893520"/>
        </p:xfrm>
        <a:graphic>
          <a:graphicData uri="http://schemas.openxmlformats.org/drawingml/2006/table">
            <a:tbl>
              <a:tblPr/>
              <a:tblGrid>
                <a:gridCol w="1100160"/>
                <a:gridCol w="1098360"/>
                <a:gridCol w="1100160"/>
                <a:gridCol w="1098720"/>
                <a:gridCol w="555480"/>
                <a:gridCol w="1447920"/>
                <a:gridCol w="12952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c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c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8edf2"/>
                </a:solidFill>
                <a:latin typeface="Tahoma"/>
              </a:rPr>
              <a:t>Sample Schedule</a:t>
            </a:r>
            <a:br>
              <a:rPr sz="4000"/>
            </a:br>
            <a:r>
              <a:rPr b="0" lang="en-US" sz="4000" spc="-1" strike="noStrike">
                <a:solidFill>
                  <a:srgbClr val="e8edf2"/>
                </a:solidFill>
                <a:latin typeface="Tahoma"/>
              </a:rPr>
              <a:t>Grade 6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2286000"/>
          <a:ext cx="1981080" cy="241740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1 (T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2 (AR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3 (FAC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4 (WLC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971800" y="2895480"/>
          <a:ext cx="5486400" cy="1143000"/>
        </p:xfrm>
        <a:graphic>
          <a:graphicData uri="http://schemas.openxmlformats.org/drawingml/2006/table">
            <a:tbl>
              <a:tblPr/>
              <a:tblGrid>
                <a:gridCol w="914400"/>
                <a:gridCol w="1066680"/>
                <a:gridCol w="685800"/>
                <a:gridCol w="990720"/>
                <a:gridCol w="914400"/>
                <a:gridCol w="914400"/>
              </a:tblGrid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762120" y="1600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entury Competenc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4876920"/>
            <a:ext cx="190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ncore Cours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oose 3 to include one Physical Education/ Health Cou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86200" y="4191120"/>
          <a:ext cx="3657600" cy="2514600"/>
        </p:xfrm>
        <a:graphic>
          <a:graphicData uri="http://schemas.openxmlformats.org/drawingml/2006/table">
            <a:tbl>
              <a:tblPr/>
              <a:tblGrid>
                <a:gridCol w="2722680"/>
                <a:gridCol w="93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r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hysical Education/Heal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strumental Musi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oru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 Musi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V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terven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8edf2"/>
                </a:solidFill>
                <a:latin typeface="Tahoma"/>
              </a:rPr>
              <a:t>Sample Schedule</a:t>
            </a:r>
            <a:br>
              <a:rPr sz="4000"/>
            </a:br>
            <a:r>
              <a:rPr b="0" lang="en-US" sz="4000" spc="-1" strike="noStrike">
                <a:solidFill>
                  <a:srgbClr val="e8edf2"/>
                </a:solidFill>
                <a:latin typeface="Tahoma"/>
              </a:rPr>
              <a:t>Grade 7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62120" y="1773360"/>
          <a:ext cx="7696080" cy="1746000"/>
        </p:xfrm>
        <a:graphic>
          <a:graphicData uri="http://schemas.openxmlformats.org/drawingml/2006/table">
            <a:tbl>
              <a:tblPr/>
              <a:tblGrid>
                <a:gridCol w="1098360"/>
                <a:gridCol w="1263600"/>
                <a:gridCol w="762120"/>
                <a:gridCol w="1274760"/>
                <a:gridCol w="1098720"/>
                <a:gridCol w="1099800"/>
                <a:gridCol w="1098720"/>
              </a:tblGrid>
              <a:tr h="520560"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/ Health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to/ Inter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809880" y="3611520"/>
          <a:ext cx="4648320" cy="3178080"/>
        </p:xfrm>
        <a:graphic>
          <a:graphicData uri="http://schemas.openxmlformats.org/drawingml/2006/table">
            <a:tbl>
              <a:tblPr/>
              <a:tblGrid>
                <a:gridCol w="3505320"/>
                <a:gridCol w="1143000"/>
              </a:tblGrid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ur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troduction to WC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hysical Educa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VI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strumental Mus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chnology Educ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mily &amp; Consumer Scie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eneral Mus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oru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terven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3657240"/>
            <a:ext cx="2743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ncore Cours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oose 3 to include one Fine Arts course (any music or ar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876920"/>
            <a:ext cx="26668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quir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ysical Education/ Health Cour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ro to WCL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o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nterven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8edf2"/>
                </a:solidFill>
                <a:latin typeface="Tahoma"/>
              </a:rPr>
              <a:t>Sample Schedule</a:t>
            </a:r>
            <a:br>
              <a:rPr sz="4000"/>
            </a:br>
            <a:r>
              <a:rPr b="0" lang="en-US" sz="4000" spc="-1" strike="noStrike">
                <a:solidFill>
                  <a:srgbClr val="e8edf2"/>
                </a:solidFill>
                <a:latin typeface="Tahoma"/>
              </a:rPr>
              <a:t>Grade 8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3124080" cy="202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ncore Cours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oose 6 to include one Physical Education/Health and one Fine Arts (any music or Ar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62120" y="1773360"/>
          <a:ext cx="7696080" cy="1552320"/>
        </p:xfrm>
        <a:graphic>
          <a:graphicData uri="http://schemas.openxmlformats.org/drawingml/2006/table">
            <a:tbl>
              <a:tblPr/>
              <a:tblGrid>
                <a:gridCol w="1098360"/>
                <a:gridCol w="1100160"/>
                <a:gridCol w="1098720"/>
                <a:gridCol w="1101600"/>
                <a:gridCol w="630360"/>
                <a:gridCol w="1295280"/>
                <a:gridCol w="1371600"/>
              </a:tblGrid>
              <a:tr h="52056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886200" y="3505320"/>
          <a:ext cx="4572000" cy="3155760"/>
        </p:xfrm>
        <a:graphic>
          <a:graphicData uri="http://schemas.openxmlformats.org/drawingml/2006/table">
            <a:tbl>
              <a:tblPr/>
              <a:tblGrid>
                <a:gridCol w="3395520"/>
                <a:gridCol w="1176480"/>
              </a:tblGrid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ur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orld &amp; Classical Languag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hysical Educa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or 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VI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strumental Mus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chnology Educ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mily &amp; Consumer Scie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eneral Mus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oru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terven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or 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14:17:39Z</dcterms:created>
  <dc:creator>AACPS User</dc:creator>
  <dc:description/>
  <cp:keywords/>
  <dc:language>en-US</dc:language>
  <cp:lastModifiedBy>Installer</cp:lastModifiedBy>
  <dcterms:modified xsi:type="dcterms:W3CDTF">2008-08-26T21:14:18Z</dcterms:modified>
  <cp:revision>22</cp:revision>
  <dc:subject/>
  <dc:title>6 Period Day Mod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33</vt:lpwstr>
  </property>
</Properties>
</file>